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8A4-98DA-49DC-96C5-BD7C0B3B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29E-734B-48B5-B160-69BC7387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8DF-AF3F-4F87-BA2D-5A2A8397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837-8F3B-4A7A-8B00-71DF85C1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E43-7574-4359-B898-C181E89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6ABD-B7B0-46F4-BDE9-AD4BFB31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272E-1195-4B88-B4FC-517110B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72C-B754-43CD-A656-CAB87F7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093-5CA4-4318-929C-7148E24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834A-B26D-42D1-8F93-018ACEC4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1C9E-418D-4EF0-8C89-040A3D2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B60-10CC-4042-9FCA-0A1BF1C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E289-7C13-45C8-9F7D-730F3AF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293C-C513-4CD0-B3DD-C3F6005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BD45-C398-4BB4-B70A-AC01A89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F53-4792-4870-A108-DA614FF0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1F16-B9EB-40CA-9E82-524BE656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0B0-668F-436E-9340-1D4CF3A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375-1A1A-42A1-8CF1-072022D5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995-3013-4175-B215-B8F7395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303-F7E5-4CF6-AA60-E22BB864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C23-9E7E-4CF3-8972-B590BAC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A2A-ADFC-4EB9-88D5-578C697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987-60EF-4E98-9F0C-F0D436C7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D85-FE60-45DD-ABE4-7778821414B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AE3-5285-411E-8E85-3FE0AF309FF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 Remnant Shall Return”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- - -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Quarter 8, Lesson 22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ages 152-157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Pompey Goes To Jerusalem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was taken captive to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opened the gates of Jerusalem to Pompey and the Roman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entered the Most Holy Place of the temple and his life went downhill from ther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ulius Caesar was leading the Roman effort to the w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 bitter rivalry develop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Julius Caesar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60 B.C., Pompey, Julius Caesar, and Crassus formed the first Triumvirate of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rassus di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and Caesar fought each other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fled to Egypt but the Egyptians killed hi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aesar with the help of Antipater II won his battle in Egypt, then went h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aesar Controlled Judea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rewarded – made Procurator of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- confirmed as high pri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placed his sons in positions of power in Jerusale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Herod in Galilee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Phasael in Judea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aesar Assassinated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44 B.C., Caesar was assassinat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Brutus and Cassius were in opposition to Mark Anthony and Octavia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and Octavian defeated the conspirators and divided the Roman worl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controlled the eastern part (including Judea)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 controlled the western par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rouble In Judea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43 B.C., Antipater was poison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made Herod and Phasael joint rulers of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was an oppressive ruler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 fight developed over the high priest positio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gonus, son of Aristobulus, joined the Parthians and invaded Judea in 40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rouble In Judea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was removed from office and his ears were cut off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hasael was captured but committed suicide in priso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rod escaped and fled to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Roman senate appointed Herod as king of Judea hoping he would defeat the Parthian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Eventually, he did win all of Palestin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Herod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took the title of Herod the Gre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favored the Jews by getting Rome to let them worship God according to the law of Mose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was Hellenistic (Greek) in his outlook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 Edomite (Idumaean) now ruled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eace and stability prevailed in the lan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Gal. 4:4 – “When the fullness of time was come, God sent forth His son”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Meanwhile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Octavian ruled the Romans about 2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and Cleopatra were tigh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Again, internal fighting began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 won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and Cleopatra both died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’s name changed to Augustu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Luke 2:1 – 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“In those days,... Caesar Augustus...”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he Status of the Jew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ohn Hyrcanus was high priest in 134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Subdued the Idumaean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Destroyed the temple on Mt. Gerizim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When Hyrcanus died, internal fighting developed among the Maccabean effor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is son, Aristobulus, succeeded hi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died after one year and his brother Alexander Jannaeus rul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lexander Jannaeu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Ruled from 103-76 B.C. as civil ruler and as high pri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annaeus almost ousted by the people,  finally won their suppor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leaders of the revolt (800 Pharisees) were crucified while he and his concubines watched and feast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The families of the doomed men were brought in and slaughtered before their eye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Salom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When Alexander Jannaeus died, he left his kingdom to his widow, Sal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he ruled 76-6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had advised her to make peace with the Pharisee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he did, even brought them into her counci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alome died in 6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ristobulu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lexander Jannaeus and Salome had two sons: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Hyrcanus II– made high pries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Aristobulus – made military commander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ousted his brother Hyrcanus II as high priest and took complete control of the Jew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he Roman Empir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rom 129 to 75 B.C., Rome took control of most of Asia Minor and Syri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Roman senate authorized Pompey to take control of the eastern shores of the Mediterranea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ir goal: To control all shores of the sea for fifty miles inlan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Refer to the map on page 135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ntipater II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 Idumaean governor, Antipater, had a son named Antipater II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II used Hyrcanus II to help him gain power from Aristobulu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II arranged for Aretas, a Nabatean king south of Judea, to help Hyrcanus II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Now, back to the Romans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old Seleucid kingdom had collaps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Pompey sent Scaurus to Damascu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caurus then went to Judea as the Jewish in-fighting continu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Both sides wanted Scaurus to side with the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nally, Aretas’ army and Hyrcanus defeated Aristobulu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9:58:16Z</dcterms:created>
  <dc:creator>Frank D Vines</dc:creator>
  <dc:description/>
  <dc:language>en-US</dc:language>
  <cp:lastModifiedBy>Frank D Vines</cp:lastModifiedBy>
  <dcterms:modified xsi:type="dcterms:W3CDTF">2006-06-29T19:25:59Z</dcterms:modified>
  <cp:revision>13</cp:revision>
  <dc:subject/>
  <dc:title>“A Remnant Shall Return” - - - Years of Si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